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008-FAE6-4244-A895-3560FDA0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13E-50F8-458D-BF6A-15CC09EC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D46-5B3A-4BCB-BFC4-3D9DE7BC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603-E416-460A-9FF2-95BD09A5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B7D-F5B3-4DE4-8D31-25D805C3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36B-EF01-4BD6-8A1D-83467AF9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AC0-5998-49E3-BCF8-A66D9CD9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6B7-114E-4A19-92CB-39AA5F33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162-4C5C-4CA7-A71D-C10E28D8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187-4C8B-474C-B5E3-23237F07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C03-2B9A-41B8-997E-A95235A9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3CD-3193-4314-93F7-4076D813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DDC4-3F66-4626-B263-33124DD31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lligraphy" descr=""/>
          <p:cNvPicPr/>
          <p:nvPr/>
        </p:nvPicPr>
        <p:blipFill>
          <a:blip r:embed="rId1"/>
          <a:stretch/>
        </p:blipFill>
        <p:spPr>
          <a:xfrm>
            <a:off x="2590920" y="4667400"/>
            <a:ext cx="3657600" cy="196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242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rativ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7632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aring Roman Script with Gothic Scrip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man and Gothic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ell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n English script. Roman is mo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om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an Gothic because It is easi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a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ause of this , Roman Script is more often  used in prin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eryday handwriting than Gothic 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man script is not as heavy as Gothic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less decorativ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 scripts are vertic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3T05:05:05Z</dcterms:modified>
  <cp:revision>8</cp:revision>
  <dc:subject/>
  <dc:title>عرض تقديمي من PowerPoint</dc:title>
</cp:coreProperties>
</file>